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684-707A-4C9A-BB37-792E6F17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DB4-14BF-470C-B188-DDA2D5AC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2CB-BC2D-43F7-AE53-594DD59B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5F7-2BFB-488C-A33A-6908976B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1B40-0D01-4274-A1BF-9D6061F1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410A-4A6A-41A1-AE8A-FAB7C16D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4C79-F8B9-4381-A8E4-BF871F3E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FEF0-863F-4E2F-8102-229B37D0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B3D3-B55F-4AEE-9C10-D9A7BFB4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11BB-A58C-4D2A-B88D-939EFDA4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1331-CF10-4F27-A754-985594EB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43F-F32C-4486-8986-3AA89183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ABC9-B22D-4514-AB38-C6AF7EDB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2813-DFBB-44B2-A9EE-011100DE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D241-703F-43F5-94DA-19803814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7283-2EFB-424A-8AB1-67204D95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8AA1-9FD8-4CDA-9C31-1CF08656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927E-8384-4D9D-8584-A44392FD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25B-E090-4B87-A3B7-9BF86E94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B94-13EA-4648-9B8C-47EA220E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4936-D9AD-4884-9F12-BF1F85A7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A295-D0BF-4FBD-B947-45BBC6E7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12FB-F096-4DDF-A299-E602878B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232-EAAA-4047-AF31-ADE16924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1AAC-1982-4499-96D4-85F1E462B4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41C1-F44A-4136-868E-5B890604A4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75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lar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stare at angri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: To look 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: stare at happ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lable: glar - 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word: gl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: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243400" y="2332080"/>
            <a:ext cx="242568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heckou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187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 : To sign out and ta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: To 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14880" y="1676520"/>
          <a:ext cx="3265560" cy="212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14880" y="1676520"/>
                    <a:ext cx="3265560" cy="21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114880" y="3970440"/>
          <a:ext cx="3265560" cy="2128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14880" y="3970440"/>
                    <a:ext cx="3265560" cy="21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lab</cp:lastModifiedBy>
  <dcterms:modified xsi:type="dcterms:W3CDTF">2008-10-30T22:01:54Z</dcterms:modified>
  <cp:revision>9</cp:revision>
  <dc:subject/>
  <dc:title>PowerPoint Presentation</dc:title>
</cp:coreProperties>
</file>